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4.wmf" ContentType="image/x-wmf"/>
  <Override PartName="/ppt/media/image36.png" ContentType="image/png"/>
  <Override PartName="/ppt/media/image8.jpeg" ContentType="image/jpeg"/>
  <Override PartName="/ppt/media/image39.jpeg" ContentType="image/jpeg"/>
  <Override PartName="/ppt/media/image37.wmf" ContentType="image/x-wmf"/>
  <Override PartName="/ppt/media/image41.png" ContentType="image/png"/>
  <Override PartName="/ppt/media/image43.wmf" ContentType="image/x-wmf"/>
  <Override PartName="/ppt/media/image44.jpeg" ContentType="image/jpeg"/>
  <Override PartName="/ppt/media/image29.jpeg" ContentType="image/jpeg"/>
  <Override PartName="/ppt/media/image33.wmf" ContentType="image/x-wmf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5D024-F3F3-4BBD-B58D-64002AA1E7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1DE9D-BC5E-47E8-9875-C55AB0738E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E71B9-4E5F-4C90-82BC-5AAEB5BFD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7475E-7EDF-49B3-95DD-3B5A7E5F51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72EB4-CD4F-4318-9491-3435EC0127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5123B-C909-4A30-8F33-C98740B656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71E14-32AA-48B1-A9A8-CB9553E764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7ED03-7EE0-4492-9516-3B7F409A45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11BE8-2DE9-485D-9906-47D86DEC41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6BEF3-475A-4C1F-961F-78C8C10A85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7D6B9-16E9-4D1D-8FA0-5307476D0C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33B2E-A3E8-4EEF-BD7C-8FFDE56FAC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F2CB6-E928-48A9-8281-9C741E9AE5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18E88-9441-46CC-BE4C-A7AD65D558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D93DB-E417-461C-B6F2-CE0CAB8093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300A1-2725-4B89-B133-64DA6E7C8F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AF742-F65C-40E9-A10A-81F38B2306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D2AF0-8EA1-4A26-ABE8-0FEF846AAC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917B7-B995-4EC2-AD38-9106729473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07C52-72B1-41EF-909D-DAAF098B03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629ED-5460-4124-9AB9-E0CC81F83B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E151B-2268-4FF9-A1C3-ED60E66611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5E24E-3925-4261-B4BD-DAE75A656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8E9E1-D033-444F-ADBB-07B7EF4C4B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975BE-B0D2-4D73-B595-BD148AA029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3EECF-4D8C-48C2-9B82-E694DCAB12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34259-75E1-48E7-A222-3D16AEEED2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1486A-6A99-4522-A2BB-B83315EF65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4916D-B22B-44FD-8FB3-98A75C4FBD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381E9-FE92-4FBE-B611-0B398037AC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88379-4881-4D16-9357-D58B28B5AC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06C83-A3B4-4979-B264-58266B873A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8C51C-BD1F-466B-9DF1-414985654F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C56C2-BE38-4AA2-9C08-FC45D5EF9E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711F1-6FE7-4377-8577-4DA0EF8E68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82901-BD2F-490F-9147-07EC8BABE8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3936D-0307-49F3-B439-8195DBA45B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B7806-DAF6-41A9-9488-B1029BDCD0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63E07-2C4E-4D33-BFAA-0A20541432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EF378-8153-4448-92C4-DE1EF69BA5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ED17C-4039-45B4-BB83-F334B601C1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60E8C-F19B-4759-94B9-8F3BF75BA0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72FBC-D564-4F79-BE62-5508ECBCC0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15B28-0996-4C09-8CBC-D6FC82D928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2062080"/>
            <a:ext cx="60199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ustomer Service</a:t>
            </a:r>
            <a:endParaRPr b="0" lang="en-US" sz="4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30C30-C356-476B-A1A6-A715054B0C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8CD0D-B8D1-43BD-AABC-39A9C10C09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AutoShape 2"/>
          <p:cNvSpPr/>
          <p:nvPr/>
        </p:nvSpPr>
        <p:spPr>
          <a:xfrm>
            <a:off x="6858000" y="1295280"/>
            <a:ext cx="17524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hysicia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685800" y="232416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6248520" y="2324160"/>
            <a:ext cx="2209680" cy="79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3124080" y="5486400"/>
            <a:ext cx="274320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1" name="AutoShape 7"/>
          <p:cNvCxnSpPr>
            <a:stCxn id="230" idx="0"/>
            <a:endCxn id="229" idx="2"/>
          </p:cNvCxnSpPr>
          <p:nvPr/>
        </p:nvCxnSpPr>
        <p:spPr>
          <a:xfrm flipV="1">
            <a:off x="4495680" y="3123720"/>
            <a:ext cx="2858400" cy="23630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8"/>
          <p:cNvCxnSpPr>
            <a:stCxn id="230" idx="0"/>
            <a:endCxn id="228" idx="2"/>
          </p:cNvCxnSpPr>
          <p:nvPr/>
        </p:nvCxnSpPr>
        <p:spPr>
          <a:xfrm flipH="1" flipV="1">
            <a:off x="1599480" y="3085560"/>
            <a:ext cx="2896200" cy="240084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33" name="AutoShape 9"/>
          <p:cNvSpPr/>
          <p:nvPr/>
        </p:nvSpPr>
        <p:spPr>
          <a:xfrm>
            <a:off x="2971800" y="1447920"/>
            <a:ext cx="28954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4" name="AutoShape 10"/>
          <p:cNvCxnSpPr>
            <a:stCxn id="230" idx="0"/>
            <a:endCxn id="233" idx="2"/>
          </p:cNvCxnSpPr>
          <p:nvPr/>
        </p:nvCxnSpPr>
        <p:spPr>
          <a:xfrm flipH="1" flipV="1">
            <a:off x="4419000" y="2590200"/>
            <a:ext cx="76680" cy="289620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5" name="AutoShape 11"/>
          <p:cNvCxnSpPr>
            <a:stCxn id="228" idx="3"/>
            <a:endCxn id="233" idx="1"/>
          </p:cNvCxnSpPr>
          <p:nvPr/>
        </p:nvCxnSpPr>
        <p:spPr>
          <a:xfrm flipV="1">
            <a:off x="2514600" y="2018520"/>
            <a:ext cx="457920" cy="686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36" name="AutoShape 12"/>
          <p:cNvCxnSpPr>
            <a:stCxn id="233" idx="3"/>
            <a:endCxn id="229" idx="1"/>
          </p:cNvCxnSpPr>
          <p:nvPr/>
        </p:nvCxnSpPr>
        <p:spPr>
          <a:xfrm>
            <a:off x="5866920" y="2019240"/>
            <a:ext cx="381960" cy="705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7" name="Rectangle 13"/>
          <p:cNvSpPr/>
          <p:nvPr/>
        </p:nvSpPr>
        <p:spPr>
          <a:xfrm>
            <a:off x="2286000" y="3505320"/>
            <a:ext cx="4648320" cy="16002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Accurat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terpretabl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Timelin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CD052-EA8B-44BE-A7CC-A453B32F2C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73CA0-E78C-4B57-A34C-F1B7E04DF6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hysician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304920" y="2057400"/>
          <a:ext cx="8534160" cy="3733920"/>
        </p:xfrm>
        <a:graphic>
          <a:graphicData uri="http://schemas.openxmlformats.org/drawingml/2006/table">
            <a:tbl>
              <a:tblPr/>
              <a:tblGrid>
                <a:gridCol w="2590560"/>
                <a:gridCol w="3200400"/>
                <a:gridCol w="27432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re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ost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men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lection manu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quisition for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etency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valid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assess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mple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cess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currence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boratory information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s verif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pretable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te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42" name="AutoShape 47"/>
          <p:cNvSpPr/>
          <p:nvPr/>
        </p:nvSpPr>
        <p:spPr>
          <a:xfrm>
            <a:off x="762120" y="1295280"/>
            <a:ext cx="1600200" cy="685800"/>
          </a:xfrm>
          <a:prstGeom prst="pie">
            <a:avLst/>
          </a:prstGeom>
          <a:gradFill rotWithShape="0">
            <a:gsLst>
              <a:gs pos="0">
                <a:srgbClr val="11f71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AutoShape 48"/>
          <p:cNvSpPr/>
          <p:nvPr/>
        </p:nvSpPr>
        <p:spPr>
          <a:xfrm>
            <a:off x="3505320" y="1295280"/>
            <a:ext cx="1752480" cy="685800"/>
          </a:xfrm>
          <a:prstGeom prst="pie">
            <a:avLst/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AutoShape 49"/>
          <p:cNvSpPr/>
          <p:nvPr/>
        </p:nvSpPr>
        <p:spPr>
          <a:xfrm>
            <a:off x="6477120" y="1295280"/>
            <a:ext cx="1676160" cy="685800"/>
          </a:xfrm>
          <a:prstGeom prst="pie">
            <a:avLst/>
          </a:prstGeom>
          <a:solidFill>
            <a:srgbClr val="0355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39250-D901-4FA7-AD42-5853B24707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742C8-61C0-496A-B42F-B856009754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13"/>
          <p:cNvSpPr/>
          <p:nvPr/>
        </p:nvSpPr>
        <p:spPr>
          <a:xfrm>
            <a:off x="1143000" y="3352680"/>
            <a:ext cx="2133720" cy="2057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mfo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Priva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AutoShape 2"/>
          <p:cNvSpPr/>
          <p:nvPr/>
        </p:nvSpPr>
        <p:spPr>
          <a:xfrm>
            <a:off x="6858000" y="990720"/>
            <a:ext cx="19810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609480" y="1981080"/>
            <a:ext cx="21337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5"/>
          <p:cNvSpPr/>
          <p:nvPr/>
        </p:nvSpPr>
        <p:spPr>
          <a:xfrm>
            <a:off x="6400800" y="2362320"/>
            <a:ext cx="2286000" cy="102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6"/>
          <p:cNvSpPr/>
          <p:nvPr/>
        </p:nvSpPr>
        <p:spPr>
          <a:xfrm>
            <a:off x="3429000" y="4952880"/>
            <a:ext cx="2666880" cy="106704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3" name="AutoShape 7"/>
          <p:cNvCxnSpPr>
            <a:stCxn id="252" idx="0"/>
          </p:cNvCxnSpPr>
          <p:nvPr/>
        </p:nvCxnSpPr>
        <p:spPr>
          <a:xfrm flipV="1">
            <a:off x="4762440" y="3428280"/>
            <a:ext cx="2286720" cy="1524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AutoShape 8"/>
          <p:cNvCxnSpPr>
            <a:stCxn id="252" idx="0"/>
          </p:cNvCxnSpPr>
          <p:nvPr/>
        </p:nvCxnSpPr>
        <p:spPr>
          <a:xfrm flipH="1" flipV="1">
            <a:off x="2666160" y="2971080"/>
            <a:ext cx="2096280" cy="19818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55" name="AutoShape 9"/>
          <p:cNvSpPr/>
          <p:nvPr/>
        </p:nvSpPr>
        <p:spPr>
          <a:xfrm>
            <a:off x="3505320" y="2209680"/>
            <a:ext cx="22096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6" name="AutoShape 10"/>
          <p:cNvCxnSpPr/>
          <p:nvPr/>
        </p:nvCxnSpPr>
        <p:spPr>
          <a:xfrm flipH="1" flipV="1">
            <a:off x="4723920" y="3276360"/>
            <a:ext cx="38880" cy="167688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7" name="AutoShape 11"/>
          <p:cNvCxnSpPr>
            <a:stCxn id="250" idx="3"/>
            <a:endCxn id="255" idx="1"/>
          </p:cNvCxnSpPr>
          <p:nvPr/>
        </p:nvCxnSpPr>
        <p:spPr>
          <a:xfrm>
            <a:off x="2742840" y="2552400"/>
            <a:ext cx="762840" cy="229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8" name="AutoShape 12"/>
          <p:cNvCxnSpPr>
            <a:stCxn id="255" idx="3"/>
            <a:endCxn id="251" idx="1"/>
          </p:cNvCxnSpPr>
          <p:nvPr/>
        </p:nvCxnSpPr>
        <p:spPr>
          <a:xfrm>
            <a:off x="5714640" y="2781360"/>
            <a:ext cx="686520" cy="957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75670-0C3A-44C2-9378-DB07C08873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379B6-02B9-4885-963D-F53652733A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atient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facili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ed and knowledgeab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identiality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enance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6" descr="PH01633J"/>
          <p:cNvPicPr/>
          <p:nvPr/>
        </p:nvPicPr>
        <p:blipFill>
          <a:blip r:embed="rId1"/>
          <a:stretch/>
        </p:blipFill>
        <p:spPr>
          <a:xfrm>
            <a:off x="6019920" y="4419720"/>
            <a:ext cx="2743200" cy="1815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10030_lores"/>
          <p:cNvPicPr/>
          <p:nvPr/>
        </p:nvPicPr>
        <p:blipFill>
          <a:blip r:embed="rId2"/>
          <a:stretch/>
        </p:blipFill>
        <p:spPr>
          <a:xfrm>
            <a:off x="762120" y="4419720"/>
            <a:ext cx="2647800" cy="177804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8"/>
          <p:cNvSpPr/>
          <p:nvPr/>
        </p:nvSpPr>
        <p:spPr>
          <a:xfrm>
            <a:off x="6324480" y="58672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CONFIDENT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12" descr="14_instructions"/>
          <p:cNvPicPr/>
          <p:nvPr/>
        </p:nvPicPr>
        <p:blipFill>
          <a:blip r:embed="rId3"/>
          <a:stretch/>
        </p:blipFill>
        <p:spPr>
          <a:xfrm rot="20064600">
            <a:off x="3885840" y="4343400"/>
            <a:ext cx="1581120" cy="212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EEBF4-AD83-46DB-9EC3-2B12368B1A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7E71A-9F98-4260-BF0F-1131412DC4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vide information for pati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0" name="Picture 5" descr="14_direcions-to_lab_l"/>
          <p:cNvPicPr/>
          <p:nvPr/>
        </p:nvPicPr>
        <p:blipFill>
          <a:blip r:embed="rId1"/>
          <a:srcRect l="0" t="0" r="0" b="2197"/>
          <a:stretch/>
        </p:blipFill>
        <p:spPr>
          <a:xfrm>
            <a:off x="3886200" y="2287440"/>
            <a:ext cx="4952880" cy="37339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304920" y="1219320"/>
            <a:ext cx="8153280" cy="34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address and location –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re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urs of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lingual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lingual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Picture 9" descr="j0397074"/>
          <p:cNvPicPr/>
          <p:nvPr/>
        </p:nvPicPr>
        <p:blipFill>
          <a:blip r:embed="rId2"/>
          <a:stretch/>
        </p:blipFill>
        <p:spPr>
          <a:xfrm>
            <a:off x="7391520" y="2209680"/>
            <a:ext cx="1295280" cy="128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52307-C901-4FED-B2E6-0C27ABC7FD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4D22B-C39D-4C84-82E9-1120CCF3E2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llectio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80880" y="68544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iden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prepa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sample requi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container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e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al hand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343400" y="4038480"/>
            <a:ext cx="4259160" cy="20797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334120" y="2590920"/>
            <a:ext cx="3504960" cy="15332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6231_thumb"/>
          <p:cNvPicPr/>
          <p:nvPr/>
        </p:nvPicPr>
        <p:blipFill>
          <a:blip r:embed="rId3"/>
          <a:stretch/>
        </p:blipFill>
        <p:spPr>
          <a:xfrm rot="11535600">
            <a:off x="56908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80" name="Picture 8" descr="patient-wristband"/>
          <p:cNvPicPr/>
          <p:nvPr/>
        </p:nvPicPr>
        <p:blipFill>
          <a:blip r:embed="rId4"/>
          <a:stretch/>
        </p:blipFill>
        <p:spPr>
          <a:xfrm>
            <a:off x="7391520" y="1066680"/>
            <a:ext cx="1523880" cy="15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55EC5-F146-4C63-B4D0-B4D9A6D79A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077A1-A163-42F7-89A3-EA4E501D93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533520" y="53352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7d"/>
                </a:solidFill>
                <a:latin typeface="Verdana"/>
              </a:rPr>
              <a:t>Provide clean, private sample collection room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04920" y="539640"/>
            <a:ext cx="8534160" cy="577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090C0-36FD-49EC-8709-FF5E937587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69C8B-FC28-48FB-8840-F2CFAC7EC9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AutoShape 2"/>
          <p:cNvSpPr/>
          <p:nvPr/>
        </p:nvSpPr>
        <p:spPr>
          <a:xfrm>
            <a:off x="6553080" y="1295280"/>
            <a:ext cx="17528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blic Health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609480" y="228600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6095880" y="2324160"/>
            <a:ext cx="2362320" cy="1181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AutoShape 6"/>
          <p:cNvSpPr/>
          <p:nvPr/>
        </p:nvSpPr>
        <p:spPr>
          <a:xfrm>
            <a:off x="3276720" y="4876920"/>
            <a:ext cx="2286000" cy="8380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2" name="AutoShape 7"/>
          <p:cNvCxnSpPr/>
          <p:nvPr/>
        </p:nvCxnSpPr>
        <p:spPr>
          <a:xfrm flipV="1">
            <a:off x="4419720" y="3504960"/>
            <a:ext cx="16768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3" name="AutoShape 8"/>
          <p:cNvCxnSpPr>
            <a:stCxn id="291" idx="0"/>
          </p:cNvCxnSpPr>
          <p:nvPr/>
        </p:nvCxnSpPr>
        <p:spPr>
          <a:xfrm flipH="1" flipV="1">
            <a:off x="1981080" y="3047760"/>
            <a:ext cx="2439000" cy="182952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94" name="AutoShape 9"/>
          <p:cNvSpPr/>
          <p:nvPr/>
        </p:nvSpPr>
        <p:spPr>
          <a:xfrm>
            <a:off x="3581280" y="2209680"/>
            <a:ext cx="18288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5" name="AutoShape 10"/>
          <p:cNvCxnSpPr>
            <a:stCxn id="291" idx="0"/>
          </p:cNvCxnSpPr>
          <p:nvPr/>
        </p:nvCxnSpPr>
        <p:spPr>
          <a:xfrm flipH="1" flipV="1">
            <a:off x="4343400" y="3199680"/>
            <a:ext cx="76680" cy="16772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" name="AutoShape 11"/>
          <p:cNvCxnSpPr>
            <a:endCxn id="294" idx="1"/>
          </p:cNvCxnSpPr>
          <p:nvPr/>
        </p:nvCxnSpPr>
        <p:spPr>
          <a:xfrm flipV="1">
            <a:off x="2514240" y="2704680"/>
            <a:ext cx="1067400" cy="388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7" name="AutoShape 12"/>
          <p:cNvCxnSpPr>
            <a:stCxn id="294" idx="3"/>
            <a:endCxn id="290" idx="1"/>
          </p:cNvCxnSpPr>
          <p:nvPr/>
        </p:nvCxnSpPr>
        <p:spPr>
          <a:xfrm>
            <a:off x="5409720" y="2705040"/>
            <a:ext cx="686520" cy="210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8" name="Rectangle 13"/>
          <p:cNvSpPr/>
          <p:nvPr/>
        </p:nvSpPr>
        <p:spPr>
          <a:xfrm>
            <a:off x="6095880" y="3733920"/>
            <a:ext cx="2286000" cy="24382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ntai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84C4D-46F7-409C-B252-6151E1D05C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10C6F-C3DA-46D0-9069-EB31D7ABAA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1" name="Diagram 8"/>
          <p:cNvGrpSpPr/>
          <p:nvPr/>
        </p:nvGrpSpPr>
        <p:grpSpPr>
          <a:xfrm>
            <a:off x="954360" y="1066680"/>
            <a:ext cx="7386840" cy="5330160"/>
            <a:chOff x="954360" y="1066680"/>
            <a:chExt cx="7386840" cy="5330160"/>
          </a:xfrm>
        </p:grpSpPr>
        <p:sp>
          <p:nvSpPr>
            <p:cNvPr id="302" name="_s1028"/>
            <p:cNvSpPr/>
            <p:nvPr/>
          </p:nvSpPr>
          <p:spPr>
            <a:xfrm flipH="1" flipV="1">
              <a:off x="2869920" y="306432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_s1029"/>
            <p:cNvSpPr/>
            <p:nvPr/>
          </p:nvSpPr>
          <p:spPr>
            <a:xfrm>
              <a:off x="954360" y="2064240"/>
              <a:ext cx="2053080" cy="13327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aste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_s1030"/>
            <p:cNvSpPr/>
            <p:nvPr/>
          </p:nvSpPr>
          <p:spPr>
            <a:xfrm flipH="1">
              <a:off x="286992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_s1031"/>
            <p:cNvSpPr/>
            <p:nvPr/>
          </p:nvSpPr>
          <p:spPr>
            <a:xfrm>
              <a:off x="954360" y="4064040"/>
              <a:ext cx="2053080" cy="1332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ransport of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dangerous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good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_s1032"/>
            <p:cNvSpPr/>
            <p:nvPr/>
          </p:nvSpPr>
          <p:spPr>
            <a:xfrm>
              <a:off x="4647600" y="4397040"/>
              <a:ext cx="0" cy="6667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" name="_s1033"/>
            <p:cNvSpPr/>
            <p:nvPr/>
          </p:nvSpPr>
          <p:spPr>
            <a:xfrm>
              <a:off x="3621600" y="5063760"/>
              <a:ext cx="2052360" cy="1333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ontain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_s1034"/>
            <p:cNvSpPr/>
            <p:nvPr/>
          </p:nvSpPr>
          <p:spPr>
            <a:xfrm>
              <a:off x="553716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_s1035"/>
            <p:cNvSpPr/>
            <p:nvPr/>
          </p:nvSpPr>
          <p:spPr>
            <a:xfrm>
              <a:off x="6288120" y="4064040"/>
              <a:ext cx="2053080" cy="1332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ecuri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_s1036"/>
            <p:cNvSpPr/>
            <p:nvPr/>
          </p:nvSpPr>
          <p:spPr>
            <a:xfrm flipV="1">
              <a:off x="5537160" y="3066120"/>
              <a:ext cx="888480" cy="333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_s1037"/>
            <p:cNvSpPr/>
            <p:nvPr/>
          </p:nvSpPr>
          <p:spPr>
            <a:xfrm>
              <a:off x="6288120" y="2066400"/>
              <a:ext cx="2053080" cy="13330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afe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_s1038"/>
            <p:cNvSpPr/>
            <p:nvPr/>
          </p:nvSpPr>
          <p:spPr>
            <a:xfrm flipV="1">
              <a:off x="4647600" y="2399400"/>
              <a:ext cx="0" cy="66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_s1039"/>
            <p:cNvSpPr/>
            <p:nvPr/>
          </p:nvSpPr>
          <p:spPr>
            <a:xfrm>
              <a:off x="3621600" y="1066680"/>
              <a:ext cx="2052360" cy="13330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ommunicabl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disease alert,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urveillance,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nd respons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_s1040"/>
            <p:cNvSpPr/>
            <p:nvPr/>
          </p:nvSpPr>
          <p:spPr>
            <a:xfrm>
              <a:off x="3621600" y="3066120"/>
              <a:ext cx="2052360" cy="13330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5" name="Rectangle 24"/>
          <p:cNvSpPr/>
          <p:nvPr/>
        </p:nvSpPr>
        <p:spPr>
          <a:xfrm>
            <a:off x="457200" y="4572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eting the Community, Public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Text Box 26"/>
          <p:cNvSpPr/>
          <p:nvPr/>
        </p:nvSpPr>
        <p:spPr>
          <a:xfrm>
            <a:off x="3429000" y="2743200"/>
            <a:ext cx="2666880" cy="18788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6216C-0686-4206-A611-9497A2FBA9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7B38F-93CB-43A8-97E7-A4866ABEB7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762120" y="1523880"/>
            <a:ext cx="7619760" cy="119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Laboratory inspected and accredited to high standar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1" name="Group 9"/>
          <p:cNvGrpSpPr/>
          <p:nvPr/>
        </p:nvGrpSpPr>
        <p:grpSpPr>
          <a:xfrm>
            <a:off x="1066680" y="3048120"/>
            <a:ext cx="3123000" cy="3045600"/>
            <a:chOff x="1066680" y="3048120"/>
            <a:chExt cx="3123000" cy="3045600"/>
          </a:xfrm>
        </p:grpSpPr>
        <p:grpSp>
          <p:nvGrpSpPr>
            <p:cNvPr id="322" name="Group 10"/>
            <p:cNvGrpSpPr/>
            <p:nvPr/>
          </p:nvGrpSpPr>
          <p:grpSpPr>
            <a:xfrm>
              <a:off x="1066680" y="3048120"/>
              <a:ext cx="3123000" cy="3045600"/>
              <a:chOff x="1066680" y="3048120"/>
              <a:chExt cx="3123000" cy="3045600"/>
            </a:xfrm>
          </p:grpSpPr>
          <p:sp>
            <p:nvSpPr>
              <p:cNvPr id="323" name="Rectangle 11"/>
              <p:cNvSpPr/>
              <p:nvPr/>
            </p:nvSpPr>
            <p:spPr>
              <a:xfrm>
                <a:off x="1066680" y="3048120"/>
                <a:ext cx="3123000" cy="3045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4" name="WordArt 12"/>
              <p:cNvSpPr txBox="1"/>
              <p:nvPr/>
            </p:nvSpPr>
            <p:spPr>
              <a:xfrm>
                <a:off x="1301040" y="3555360"/>
                <a:ext cx="265392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blipFill rotWithShape="0">
                      <a:blip r:embed="rId1"/>
                      <a:srcRect/>
                      <a:stretch/>
                    </a:blip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latin typeface="comic"/>
                  <a:ea typeface="comic"/>
                </a:endParaRPr>
              </a:p>
            </p:txBody>
          </p:sp>
        </p:grpSp>
        <p:sp>
          <p:nvSpPr>
            <p:cNvPr id="325" name="Text Box 13"/>
            <p:cNvSpPr/>
            <p:nvPr/>
          </p:nvSpPr>
          <p:spPr>
            <a:xfrm>
              <a:off x="1918800" y="3809520"/>
              <a:ext cx="14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4"/>
            <p:cNvSpPr/>
            <p:nvPr/>
          </p:nvSpPr>
          <p:spPr>
            <a:xfrm>
              <a:off x="1847520" y="474660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7" name="AutoShape 15"/>
          <p:cNvSpPr/>
          <p:nvPr/>
        </p:nvSpPr>
        <p:spPr>
          <a:xfrm>
            <a:off x="3124080" y="5105520"/>
            <a:ext cx="914400" cy="838080"/>
          </a:xfrm>
          <a:custGeom>
            <a:avLst/>
            <a:gdLst>
              <a:gd name="textAreaLeft" fmla="*/ 208800 w 914400"/>
              <a:gd name="textAreaRight" fmla="*/ 705600 w 914400"/>
              <a:gd name="textAreaTop" fmla="*/ 191160 h 838080"/>
              <a:gd name="textAreaBottom" fmla="*/ 646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8" name="Group 16"/>
          <p:cNvGrpSpPr/>
          <p:nvPr/>
        </p:nvGrpSpPr>
        <p:grpSpPr>
          <a:xfrm>
            <a:off x="4724280" y="3048120"/>
            <a:ext cx="3198960" cy="3045600"/>
            <a:chOff x="4724280" y="3048120"/>
            <a:chExt cx="3198960" cy="3045600"/>
          </a:xfrm>
        </p:grpSpPr>
        <p:grpSp>
          <p:nvGrpSpPr>
            <p:cNvPr id="329" name="Group 17"/>
            <p:cNvGrpSpPr/>
            <p:nvPr/>
          </p:nvGrpSpPr>
          <p:grpSpPr>
            <a:xfrm>
              <a:off x="4724280" y="3048120"/>
              <a:ext cx="3198960" cy="3045600"/>
              <a:chOff x="4724280" y="3048120"/>
              <a:chExt cx="3198960" cy="3045600"/>
            </a:xfrm>
          </p:grpSpPr>
          <p:sp>
            <p:nvSpPr>
              <p:cNvPr id="330" name="Rectangle 18"/>
              <p:cNvSpPr/>
              <p:nvPr/>
            </p:nvSpPr>
            <p:spPr>
              <a:xfrm>
                <a:off x="4724280" y="3048120"/>
                <a:ext cx="3198960" cy="3045600"/>
              </a:xfrm>
              <a:prstGeom prst="rect">
                <a:avLst/>
              </a:prstGeom>
              <a:solidFill>
                <a:srgbClr val="ffff00"/>
              </a:soli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1" name="WordArt 19"/>
              <p:cNvSpPr txBox="1"/>
              <p:nvPr/>
            </p:nvSpPr>
            <p:spPr>
              <a:xfrm>
                <a:off x="4964400" y="3555360"/>
                <a:ext cx="271836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comic"/>
                  <a:ea typeface="comic"/>
                </a:endParaRPr>
              </a:p>
            </p:txBody>
          </p:sp>
        </p:grpSp>
        <p:sp>
          <p:nvSpPr>
            <p:cNvPr id="332" name="Text Box 20"/>
            <p:cNvSpPr/>
            <p:nvPr/>
          </p:nvSpPr>
          <p:spPr>
            <a:xfrm>
              <a:off x="5682960" y="3809520"/>
              <a:ext cx="14486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8, 2009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10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Text Box 21"/>
            <p:cNvSpPr/>
            <p:nvPr/>
          </p:nvSpPr>
          <p:spPr>
            <a:xfrm>
              <a:off x="4934160" y="4772880"/>
              <a:ext cx="27795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INTAINED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4" name="AutoShape 28"/>
          <p:cNvSpPr/>
          <p:nvPr/>
        </p:nvSpPr>
        <p:spPr>
          <a:xfrm>
            <a:off x="6934320" y="51055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F25F2-F032-4CF2-9AD1-B5187798E9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D529C-D546-42CB-A214-F2A5594C8F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gnize the variety of laboratory customer grou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 methods to measure customer satisfac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problems that may develop with custom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ggest solutions for customer service problem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how quality management processes help the laboratory meet customer group needs and requireme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E6F87-2BA3-45D7-8A06-0F99793025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126DE-931C-4A4A-9320-29A1119498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ood customer service provides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2895120"/>
            <a:ext cx="807696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for best patient c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to improve surveill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ional image of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457200" y="609480"/>
            <a:ext cx="8305920" cy="1556280"/>
          </a:xfrm>
          <a:prstGeom prst="rect">
            <a:avLst/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ustomer service is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integral part of a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F640F-F055-4F0E-A4B2-11239008F3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0A3E8-322E-4AF5-82D3-AF3775372E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thods for Assessing Customer Satisfac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43" name="Diagram 5"/>
          <p:cNvGrpSpPr/>
          <p:nvPr/>
        </p:nvGrpSpPr>
        <p:grpSpPr>
          <a:xfrm>
            <a:off x="807120" y="1339920"/>
            <a:ext cx="7452720" cy="4906080"/>
            <a:chOff x="807120" y="1339920"/>
            <a:chExt cx="7452720" cy="4906080"/>
          </a:xfrm>
        </p:grpSpPr>
        <p:sp>
          <p:nvSpPr>
            <p:cNvPr id="344" name="_s2052"/>
            <p:cNvSpPr/>
            <p:nvPr/>
          </p:nvSpPr>
          <p:spPr>
            <a:xfrm flipH="1" flipV="1">
              <a:off x="2739600" y="317808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5" name="_s2053"/>
            <p:cNvSpPr/>
            <p:nvPr/>
          </p:nvSpPr>
          <p:spPr>
            <a:xfrm>
              <a:off x="807120" y="225828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interviews,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focus group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6" name="_s2054"/>
            <p:cNvSpPr/>
            <p:nvPr/>
          </p:nvSpPr>
          <p:spPr>
            <a:xfrm flipH="1">
              <a:off x="2739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7" name="_s2055"/>
            <p:cNvSpPr/>
            <p:nvPr/>
          </p:nvSpPr>
          <p:spPr>
            <a:xfrm>
              <a:off x="80712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atisfaction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urvey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8" name="_s2056"/>
            <p:cNvSpPr/>
            <p:nvPr/>
          </p:nvSpPr>
          <p:spPr>
            <a:xfrm>
              <a:off x="4533480" y="4405320"/>
              <a:ext cx="0" cy="61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9" name="_s2057"/>
            <p:cNvSpPr/>
            <p:nvPr/>
          </p:nvSpPr>
          <p:spPr>
            <a:xfrm>
              <a:off x="3498120" y="50191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review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_s2058"/>
            <p:cNvSpPr/>
            <p:nvPr/>
          </p:nvSpPr>
          <p:spPr>
            <a:xfrm>
              <a:off x="5430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_s2059"/>
            <p:cNvSpPr/>
            <p:nvPr/>
          </p:nvSpPr>
          <p:spPr>
            <a:xfrm>
              <a:off x="618840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ternal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audi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_s2060"/>
            <p:cNvSpPr/>
            <p:nvPr/>
          </p:nvSpPr>
          <p:spPr>
            <a:xfrm flipV="1">
              <a:off x="5430600" y="3180240"/>
              <a:ext cx="896400" cy="30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3" name="_s2061"/>
            <p:cNvSpPr/>
            <p:nvPr/>
          </p:nvSpPr>
          <p:spPr>
            <a:xfrm>
              <a:off x="6188400" y="2260080"/>
              <a:ext cx="207144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quality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dicator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_s2062"/>
            <p:cNvSpPr/>
            <p:nvPr/>
          </p:nvSpPr>
          <p:spPr>
            <a:xfrm flipV="1">
              <a:off x="4533480" y="2566800"/>
              <a:ext cx="0" cy="6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5" name="_s2063"/>
            <p:cNvSpPr/>
            <p:nvPr/>
          </p:nvSpPr>
          <p:spPr>
            <a:xfrm>
              <a:off x="3498120" y="13399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complaint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monitoring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6" name="_s2064"/>
            <p:cNvSpPr/>
            <p:nvPr/>
          </p:nvSpPr>
          <p:spPr>
            <a:xfrm>
              <a:off x="3498120" y="318024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MONITOR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133CA-ECF5-4A37-85E9-E476990C9A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1D668-F2D3-434D-9228-622493D8FE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9" name="Picture 6" descr="MPj0400492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828800"/>
            <a:ext cx="8534160" cy="441972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eived complaints may reflect only the “Tip of the Iceberg”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1" name="Picture 11" descr="MCSO00600_0000[1]"/>
          <p:cNvPicPr/>
          <p:nvPr/>
        </p:nvPicPr>
        <p:blipFill>
          <a:blip r:embed="rId2"/>
          <a:stretch/>
        </p:blipFill>
        <p:spPr>
          <a:xfrm>
            <a:off x="990720" y="1828800"/>
            <a:ext cx="7162560" cy="265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BA2C9-F20E-433B-BA50-BCAF5325EF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Picture 14" descr="MCPE01538_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80880" y="2514600"/>
            <a:ext cx="2200320" cy="3733920"/>
          </a:xfrm>
          <a:prstGeom prst="rect">
            <a:avLst/>
          </a:prstGeom>
          <a:ln w="0">
            <a:noFill/>
          </a:ln>
        </p:spPr>
      </p:pic>
      <p:sp>
        <p:nvSpPr>
          <p:cNvPr id="36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BC5D1-F0C6-4BD4-826A-F532D40580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4038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lai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52280" y="2590560"/>
            <a:ext cx="3657600" cy="17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Actual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dissatisfied customers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7" name="Picture 8" descr="14_under_iceberg"/>
          <p:cNvPicPr/>
          <p:nvPr/>
        </p:nvPicPr>
        <p:blipFill>
          <a:blip r:embed="rId2"/>
          <a:stretch/>
        </p:blipFill>
        <p:spPr>
          <a:xfrm>
            <a:off x="4495680" y="457200"/>
            <a:ext cx="4189680" cy="5638680"/>
          </a:xfrm>
          <a:prstGeom prst="rect">
            <a:avLst/>
          </a:prstGeom>
          <a:ln w="0">
            <a:noFill/>
          </a:ln>
        </p:spPr>
      </p:pic>
      <p:sp>
        <p:nvSpPr>
          <p:cNvPr id="368" name="AutoShape 9"/>
          <p:cNvSpPr/>
          <p:nvPr/>
        </p:nvSpPr>
        <p:spPr>
          <a:xfrm>
            <a:off x="3200400" y="1066680"/>
            <a:ext cx="2362320" cy="838440"/>
          </a:xfrm>
          <a:custGeom>
            <a:avLst/>
            <a:gdLst>
              <a:gd name="textAreaLeft" fmla="*/ 295200 w 2362320"/>
              <a:gd name="textAreaRight" fmla="*/ 2067120 w 23623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AutoShape 10"/>
          <p:cNvSpPr/>
          <p:nvPr/>
        </p:nvSpPr>
        <p:spPr>
          <a:xfrm rot="5400000">
            <a:off x="2628720" y="2705040"/>
            <a:ext cx="3809880" cy="2666880"/>
          </a:xfrm>
          <a:prstGeom prst="pi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11" descr="MCj03343020000[1]"/>
          <p:cNvPicPr/>
          <p:nvPr/>
        </p:nvPicPr>
        <p:blipFill>
          <a:blip r:embed="rId4"/>
          <a:stretch/>
        </p:blipFill>
        <p:spPr>
          <a:xfrm>
            <a:off x="2133720" y="4419720"/>
            <a:ext cx="1176120" cy="18158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2" descr="MCj03262300000[1]"/>
          <p:cNvPicPr/>
          <p:nvPr/>
        </p:nvPicPr>
        <p:blipFill>
          <a:blip r:embed="rId5"/>
          <a:stretch/>
        </p:blipFill>
        <p:spPr>
          <a:xfrm>
            <a:off x="914400" y="4876920"/>
            <a:ext cx="1523880" cy="126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1D87C-AE2B-4700-A1CC-E6C177439E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sessment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AutoShape 14"/>
          <p:cNvSpPr/>
          <p:nvPr/>
        </p:nvSpPr>
        <p:spPr>
          <a:xfrm>
            <a:off x="914400" y="1143000"/>
            <a:ext cx="39625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indica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AutoShape 16"/>
          <p:cNvSpPr/>
          <p:nvPr/>
        </p:nvSpPr>
        <p:spPr>
          <a:xfrm>
            <a:off x="5334120" y="838080"/>
            <a:ext cx="3352680" cy="2210040"/>
          </a:xfrm>
          <a:prstGeom prst="hexagon">
            <a:avLst>
              <a:gd name="adj" fmla="val 37926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17"/>
          <p:cNvSpPr/>
          <p:nvPr/>
        </p:nvSpPr>
        <p:spPr>
          <a:xfrm>
            <a:off x="5715000" y="137160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nducting internal aud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AutoShape 21"/>
          <p:cNvSpPr/>
          <p:nvPr/>
        </p:nvSpPr>
        <p:spPr>
          <a:xfrm rot="4216800">
            <a:off x="2411280" y="2452320"/>
            <a:ext cx="1444680" cy="99072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AutoShape 22"/>
          <p:cNvSpPr/>
          <p:nvPr/>
        </p:nvSpPr>
        <p:spPr>
          <a:xfrm rot="6607200">
            <a:off x="4489560" y="2439000"/>
            <a:ext cx="1452600" cy="99036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AutoShape 23"/>
          <p:cNvSpPr/>
          <p:nvPr/>
        </p:nvSpPr>
        <p:spPr>
          <a:xfrm>
            <a:off x="1981080" y="3657600"/>
            <a:ext cx="4724640" cy="2133720"/>
          </a:xfrm>
          <a:prstGeom prst="downArrowCallout">
            <a:avLst>
              <a:gd name="adj1" fmla="val 55362"/>
              <a:gd name="adj2" fmla="val 55357"/>
              <a:gd name="adj3" fmla="val 16667"/>
              <a:gd name="adj4" fmla="val 66667"/>
            </a:avLst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Text Box 24"/>
          <p:cNvSpPr/>
          <p:nvPr/>
        </p:nvSpPr>
        <p:spPr>
          <a:xfrm>
            <a:off x="2286000" y="388620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eviewing by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Text Box 25"/>
          <p:cNvSpPr/>
          <p:nvPr/>
        </p:nvSpPr>
        <p:spPr>
          <a:xfrm>
            <a:off x="3733920" y="5257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4ED8F-81BD-486E-B464-DBAE2CE65A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FF63A-4B41-4771-B03E-C568963919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152280" y="990720"/>
            <a:ext cx="4648320" cy="4952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stomer surveys are a requirement of quality management system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ISO 900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6" descr="customer_service_form"/>
          <p:cNvPicPr/>
          <p:nvPr/>
        </p:nvPicPr>
        <p:blipFill>
          <a:blip r:embed="rId1"/>
          <a:srcRect l="11760" t="1818" r="11760" b="11818"/>
          <a:stretch/>
        </p:blipFill>
        <p:spPr>
          <a:xfrm>
            <a:off x="4876920" y="609480"/>
            <a:ext cx="3781440" cy="552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A4664-760C-4341-A7D7-D0201B530C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BF7F0-86AF-44F2-9227-258C4755D3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ustomer Survey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9" name="Diagram 5"/>
          <p:cNvGrpSpPr/>
          <p:nvPr/>
        </p:nvGrpSpPr>
        <p:grpSpPr>
          <a:xfrm>
            <a:off x="757800" y="1295280"/>
            <a:ext cx="7553880" cy="4525920"/>
            <a:chOff x="757800" y="1295280"/>
            <a:chExt cx="7553880" cy="4525920"/>
          </a:xfrm>
        </p:grpSpPr>
        <p:sp>
          <p:nvSpPr>
            <p:cNvPr id="390" name="_s3076"/>
            <p:cNvSpPr/>
            <p:nvPr/>
          </p:nvSpPr>
          <p:spPr>
            <a:xfrm flipH="1" flipV="1">
              <a:off x="2668680" y="3356640"/>
              <a:ext cx="932400" cy="1868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_s3077"/>
            <p:cNvSpPr/>
            <p:nvPr/>
          </p:nvSpPr>
          <p:spPr>
            <a:xfrm>
              <a:off x="757800" y="2556000"/>
              <a:ext cx="1961280" cy="1219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analyzed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in a timely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manner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_s3078"/>
            <p:cNvSpPr/>
            <p:nvPr/>
          </p:nvSpPr>
          <p:spPr>
            <a:xfrm flipH="1">
              <a:off x="3382920" y="4225680"/>
              <a:ext cx="573120" cy="493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_s3079"/>
            <p:cNvSpPr/>
            <p:nvPr/>
          </p:nvSpPr>
          <p:spPr>
            <a:xfrm>
              <a:off x="1821960" y="4600080"/>
              <a:ext cx="1961280" cy="1218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no leading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questions,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unbias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_s3080"/>
            <p:cNvSpPr/>
            <p:nvPr/>
          </p:nvSpPr>
          <p:spPr>
            <a:xfrm>
              <a:off x="5110560" y="4225680"/>
              <a:ext cx="576720" cy="491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5" name="_s3081"/>
            <p:cNvSpPr/>
            <p:nvPr/>
          </p:nvSpPr>
          <p:spPr>
            <a:xfrm>
              <a:off x="5279760" y="4601880"/>
              <a:ext cx="1961280" cy="1219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e-test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_s3082"/>
            <p:cNvSpPr/>
            <p:nvPr/>
          </p:nvSpPr>
          <p:spPr>
            <a:xfrm flipV="1">
              <a:off x="5465880" y="3355200"/>
              <a:ext cx="932400" cy="188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_s3083"/>
            <p:cNvSpPr/>
            <p:nvPr/>
          </p:nvSpPr>
          <p:spPr>
            <a:xfrm>
              <a:off x="6350400" y="2558160"/>
              <a:ext cx="1961280" cy="1218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organiz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_s3084"/>
            <p:cNvSpPr/>
            <p:nvPr/>
          </p:nvSpPr>
          <p:spPr>
            <a:xfrm flipV="1">
              <a:off x="4533480" y="2514600"/>
              <a:ext cx="0" cy="609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_s3085"/>
            <p:cNvSpPr/>
            <p:nvPr/>
          </p:nvSpPr>
          <p:spPr>
            <a:xfrm>
              <a:off x="3553200" y="1295280"/>
              <a:ext cx="1960560" cy="1219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lann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_s3086"/>
            <p:cNvSpPr/>
            <p:nvPr/>
          </p:nvSpPr>
          <p:spPr>
            <a:xfrm>
              <a:off x="3553200" y="3123720"/>
              <a:ext cx="1960560" cy="12193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1" name="Text Box 19"/>
          <p:cNvSpPr/>
          <p:nvPr/>
        </p:nvSpPr>
        <p:spPr>
          <a:xfrm>
            <a:off x="3276720" y="2819520"/>
            <a:ext cx="2666880" cy="179964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50000">
                <a:srgbClr val="ffff00"/>
              </a:gs>
              <a:gs pos="100000">
                <a:srgbClr val="0000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ccessfu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rvey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A46A7-DBBE-4C63-A8D7-733899B4FD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1F966-6D2E-4F3C-A07F-34CDFD0992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rvey Interview Ti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708660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out questions in adv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k specific questions and an open-ended ques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honest feedba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6" name="Picture 9" descr="MCj02955670000[1]"/>
          <p:cNvPicPr/>
          <p:nvPr/>
        </p:nvPicPr>
        <p:blipFill>
          <a:blip r:embed="rId1"/>
          <a:stretch/>
        </p:blipFill>
        <p:spPr>
          <a:xfrm>
            <a:off x="6431040" y="2819520"/>
            <a:ext cx="2712960" cy="342900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8"/>
          <p:cNvSpPr/>
          <p:nvPr/>
        </p:nvSpPr>
        <p:spPr>
          <a:xfrm>
            <a:off x="533520" y="449568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Text Box 9"/>
          <p:cNvSpPr/>
          <p:nvPr/>
        </p:nvSpPr>
        <p:spPr>
          <a:xfrm>
            <a:off x="762120" y="3429000"/>
            <a:ext cx="563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w could the laboratory improve its service to you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6D1B6-C6A8-494E-B448-4A70ABE97A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ocus grou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conducting focu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up discussions, conside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ing small groups of 8-10 peop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ing people with diverse backgrounds and laboratory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rt by asking questions that build tru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focus group guide for consistency between grou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sk only open-ended question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—not “yes or no”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2" name="Picture 9" descr="MCPE02097_0000[1]"/>
          <p:cNvPicPr/>
          <p:nvPr/>
        </p:nvPicPr>
        <p:blipFill>
          <a:blip r:embed="rId1"/>
          <a:srcRect l="0" t="0" r="10556" b="60631"/>
          <a:stretch/>
        </p:blipFill>
        <p:spPr>
          <a:xfrm>
            <a:off x="5268960" y="457200"/>
            <a:ext cx="3875040" cy="136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343D8-8044-4555-957F-BBDCA8AC57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6C973-CF6B-45D9-B987-FC717037FA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easuring Customer Satisfaction: Opportunity for Impro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609480" y="1676520"/>
            <a:ext cx="800100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urveys, indicators, audi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4038480" y="2743200"/>
            <a:ext cx="91440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2895480" y="3352680"/>
            <a:ext cx="320040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form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AutoShape 9"/>
          <p:cNvSpPr/>
          <p:nvPr/>
        </p:nvSpPr>
        <p:spPr>
          <a:xfrm>
            <a:off x="685800" y="4495680"/>
            <a:ext cx="7924680" cy="1752840"/>
          </a:xfrm>
          <a:custGeom>
            <a:avLst/>
            <a:gdLst>
              <a:gd name="textAreaLeft" fmla="*/ 1981080 w 7924680"/>
              <a:gd name="textAreaRight" fmla="*/ 5943600 w 7924680"/>
              <a:gd name="textAreaTop" fmla="*/ 218880 h 1752840"/>
              <a:gd name="textAreaBottom" fmla="*/ 17532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Process improvemen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AutoShape 10"/>
          <p:cNvSpPr/>
          <p:nvPr/>
        </p:nvSpPr>
        <p:spPr>
          <a:xfrm>
            <a:off x="4114800" y="4114800"/>
            <a:ext cx="83808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AutoShape 11"/>
          <p:cNvSpPr/>
          <p:nvPr/>
        </p:nvSpPr>
        <p:spPr>
          <a:xfrm rot="19654200">
            <a:off x="2157480" y="2735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AutoShape 12"/>
          <p:cNvSpPr/>
          <p:nvPr/>
        </p:nvSpPr>
        <p:spPr>
          <a:xfrm rot="2245200">
            <a:off x="5790960" y="2742840"/>
            <a:ext cx="1020600" cy="655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BACAD-8170-486D-B402-07ED8EF571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D02AB-9216-4679-B051-1AB0EA5BC9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A few of your customers have complained about long delays in reporting HIV test results. You have confirmed that the delay is unreasonable and you solved the probl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How can you restore confidence with your customer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36B38-767C-4997-9724-ADE33DA072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C2A91-B3A7-4E32-B4A7-FB0A7D73C7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077320" cy="2916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 activ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ensures laboratories mee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ll cli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6" name="Picture 9" descr="14_pub_health"/>
          <p:cNvPicPr/>
          <p:nvPr/>
        </p:nvPicPr>
        <p:blipFill>
          <a:blip r:embed="rId1"/>
          <a:stretch/>
        </p:blipFill>
        <p:spPr>
          <a:xfrm>
            <a:off x="5638680" y="3505320"/>
            <a:ext cx="2905200" cy="2649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7" name="Picture 11" descr="elderly_patient_doc"/>
          <p:cNvPicPr/>
          <p:nvPr/>
        </p:nvPicPr>
        <p:blipFill>
          <a:blip r:embed="rId2"/>
          <a:srcRect l="0" t="0" r="0" b="15533"/>
          <a:stretch/>
        </p:blipFill>
        <p:spPr>
          <a:xfrm>
            <a:off x="533520" y="3505320"/>
            <a:ext cx="2554200" cy="26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8" name="Picture 7" descr="mom_baby"/>
          <p:cNvPicPr/>
          <p:nvPr/>
        </p:nvPicPr>
        <p:blipFill>
          <a:blip r:embed="rId3"/>
          <a:stretch/>
        </p:blipFill>
        <p:spPr>
          <a:xfrm>
            <a:off x="2971800" y="3962520"/>
            <a:ext cx="2762280" cy="19857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85130-90C1-400E-9CBC-32A810E57F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CEB8A-A410-4DA4-8DF3-56D19F6891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stomer service is an integral part of a quality management system. It is important for the laboratory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ve commitment to 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planning and monito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 and understand clients and their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resources for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eting customer needs is a primary goal of the laborator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n active quality management system ensures laboratories meet all client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veryone in the laboratory is responsible for quality, and therefore for customer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3B0A0-F37D-43AC-A478-B2DC5AB208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D104A-1DE0-48EE-AD63-CA4DD446A5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57C8A-A6D8-4DD1-A3FA-CA88885970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638680" y="16002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39" name="Group 3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440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1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2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3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4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5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6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7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8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9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0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1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2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3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54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455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456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457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58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59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0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1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462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3" name="Text Box 74"/>
              <p:cNvSpPr/>
              <p:nvPr/>
            </p:nvSpPr>
            <p:spPr>
              <a:xfrm>
                <a:off x="22654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4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465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466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7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8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69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0" name="Group 34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471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2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3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4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5" name="Group 39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476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7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8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9" name="Group 43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480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1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82" name="Group 46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483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4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85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6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7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8" name="Group 52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489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0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1" name="Group 55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492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3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4" name="Group 58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495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6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0D58F-894F-4643-99A5-B72B41C028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BFFD9-0C33-4927-9070-9BC9D6C0B7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6" name="Group 5"/>
          <p:cNvGrpSpPr/>
          <p:nvPr/>
        </p:nvGrpSpPr>
        <p:grpSpPr>
          <a:xfrm>
            <a:off x="1905120" y="1143000"/>
            <a:ext cx="5105160" cy="5105520"/>
            <a:chOff x="1905120" y="1143000"/>
            <a:chExt cx="5105160" cy="5105520"/>
          </a:xfrm>
        </p:grpSpPr>
        <p:sp>
          <p:nvSpPr>
            <p:cNvPr id="127" name="AutoShape 4"/>
            <p:cNvSpPr/>
            <p:nvPr/>
          </p:nvSpPr>
          <p:spPr>
            <a:xfrm>
              <a:off x="1905120" y="1143000"/>
              <a:ext cx="5105160" cy="5105520"/>
            </a:xfrm>
            <a:custGeom>
              <a:avLst/>
              <a:gdLst>
                <a:gd name="textAreaLeft" fmla="*/ 249120 w 5105160"/>
                <a:gd name="textAreaRight" fmla="*/ 4856040 w 5105160"/>
                <a:gd name="textAreaTop" fmla="*/ 249120 h 5105520"/>
                <a:gd name="textAreaBottom" fmla="*/ 4856400 h 5105520"/>
              </a:gdLst>
              <a:ahLst/>
              <a:rect l="textAreaLeft" t="textAreaTop" r="textAreaRight" b="textAreaBottom"/>
              <a:pathLst>
                <a:path w="21600" h="21602">
                  <a:moveTo>
                    <a:pt x="3600" y="0"/>
                  </a:moveTo>
                  <a:arcTo wR="3600" hR="3600" stAng="16200000" swAng="-5400000"/>
                  <a:lnTo>
                    <a:pt x="0" y="18002"/>
                  </a:lnTo>
                  <a:arcTo wR="3600" hR="3600" stAng="10800000" swAng="-5400000"/>
                  <a:lnTo>
                    <a:pt x="18000" y="216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Freeform 9"/>
            <p:cNvSpPr/>
            <p:nvPr/>
          </p:nvSpPr>
          <p:spPr>
            <a:xfrm>
              <a:off x="4116600" y="3830040"/>
              <a:ext cx="1188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Freeform 10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Freeform 11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Freeform 12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Freeform 13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Freeform 16"/>
            <p:cNvSpPr/>
            <p:nvPr/>
          </p:nvSpPr>
          <p:spPr>
            <a:xfrm>
              <a:off x="2771640" y="3224520"/>
              <a:ext cx="16560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Freeform 22"/>
            <p:cNvSpPr/>
            <p:nvPr/>
          </p:nvSpPr>
          <p:spPr>
            <a:xfrm>
              <a:off x="2760480" y="3165120"/>
              <a:ext cx="16848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Line 24"/>
            <p:cNvSpPr/>
            <p:nvPr/>
          </p:nvSpPr>
          <p:spPr>
            <a:xfrm flipH="1" flipV="1">
              <a:off x="4520160" y="586800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 flipV="1">
              <a:off x="4262040" y="476208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27"/>
            <p:cNvSpPr/>
            <p:nvPr/>
          </p:nvSpPr>
          <p:spPr>
            <a:xfrm>
              <a:off x="6033960" y="177156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>
              <a:off x="4457520" y="192168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2805840" y="196848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Line 27"/>
            <p:cNvSpPr/>
            <p:nvPr/>
          </p:nvSpPr>
          <p:spPr>
            <a:xfrm flipH="1">
              <a:off x="2505600" y="181692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1" name="Group 65"/>
            <p:cNvGrpSpPr/>
            <p:nvPr/>
          </p:nvGrpSpPr>
          <p:grpSpPr>
            <a:xfrm>
              <a:off x="2205000" y="1230480"/>
              <a:ext cx="1243080" cy="1122840"/>
              <a:chOff x="2205000" y="1230480"/>
              <a:chExt cx="1243080" cy="1122840"/>
            </a:xfrm>
          </p:grpSpPr>
          <p:grpSp>
            <p:nvGrpSpPr>
              <p:cNvPr id="142" name="Group 66"/>
              <p:cNvGrpSpPr/>
              <p:nvPr/>
            </p:nvGrpSpPr>
            <p:grpSpPr>
              <a:xfrm>
                <a:off x="2205000" y="1230480"/>
                <a:ext cx="1220760" cy="1122840"/>
                <a:chOff x="2205000" y="1230480"/>
                <a:chExt cx="1220760" cy="1122840"/>
              </a:xfrm>
            </p:grpSpPr>
            <p:grpSp>
              <p:nvGrpSpPr>
                <p:cNvPr id="143" name="Group 67"/>
                <p:cNvGrpSpPr/>
                <p:nvPr/>
              </p:nvGrpSpPr>
              <p:grpSpPr>
                <a:xfrm>
                  <a:off x="2255760" y="1230480"/>
                  <a:ext cx="1135440" cy="1122840"/>
                  <a:chOff x="2255760" y="1230480"/>
                  <a:chExt cx="1135440" cy="1122840"/>
                </a:xfrm>
              </p:grpSpPr>
              <p:sp>
                <p:nvSpPr>
                  <p:cNvPr id="144" name="Freeform 68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5" name="Freeform 69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46" name="Text Box 70"/>
                <p:cNvSpPr/>
                <p:nvPr/>
              </p:nvSpPr>
              <p:spPr>
                <a:xfrm>
                  <a:off x="2205000" y="1489320"/>
                  <a:ext cx="12207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7" name="Text Box 71"/>
              <p:cNvSpPr/>
              <p:nvPr/>
            </p:nvSpPr>
            <p:spPr>
              <a:xfrm>
                <a:off x="2227320" y="162864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8" name="Group 72"/>
            <p:cNvGrpSpPr/>
            <p:nvPr/>
          </p:nvGrpSpPr>
          <p:grpSpPr>
            <a:xfrm>
              <a:off x="3836520" y="1230480"/>
              <a:ext cx="1221480" cy="1122840"/>
              <a:chOff x="3836520" y="1230480"/>
              <a:chExt cx="1221480" cy="1122840"/>
            </a:xfrm>
          </p:grpSpPr>
          <p:sp>
            <p:nvSpPr>
              <p:cNvPr id="149" name="Freeform 73"/>
              <p:cNvSpPr/>
              <p:nvPr/>
            </p:nvSpPr>
            <p:spPr>
              <a:xfrm>
                <a:off x="3876840" y="1230480"/>
                <a:ext cx="113616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Text Box 74"/>
              <p:cNvSpPr/>
              <p:nvPr/>
            </p:nvSpPr>
            <p:spPr>
              <a:xfrm>
                <a:off x="3836520" y="1628640"/>
                <a:ext cx="122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1" name="Group 75"/>
            <p:cNvGrpSpPr/>
            <p:nvPr/>
          </p:nvGrpSpPr>
          <p:grpSpPr>
            <a:xfrm>
              <a:off x="5413320" y="1230480"/>
              <a:ext cx="1221480" cy="1122840"/>
              <a:chOff x="5413320" y="1230480"/>
              <a:chExt cx="1221480" cy="1122840"/>
            </a:xfrm>
          </p:grpSpPr>
          <p:grpSp>
            <p:nvGrpSpPr>
              <p:cNvPr id="152" name="Group 76"/>
              <p:cNvGrpSpPr/>
              <p:nvPr/>
            </p:nvGrpSpPr>
            <p:grpSpPr>
              <a:xfrm>
                <a:off x="5457960" y="1230480"/>
                <a:ext cx="1136160" cy="1122840"/>
                <a:chOff x="5457960" y="1230480"/>
                <a:chExt cx="1136160" cy="1122840"/>
              </a:xfrm>
            </p:grpSpPr>
            <p:sp>
              <p:nvSpPr>
                <p:cNvPr id="153" name="Freeform 77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" name="Freeform 78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5" name="Text Box 79"/>
              <p:cNvSpPr/>
              <p:nvPr/>
            </p:nvSpPr>
            <p:spPr>
              <a:xfrm>
                <a:off x="5413320" y="163296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6" name="Line 27"/>
            <p:cNvSpPr/>
            <p:nvPr/>
          </p:nvSpPr>
          <p:spPr>
            <a:xfrm flipH="1">
              <a:off x="2580480" y="309348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7" name="Group 36"/>
            <p:cNvGrpSpPr/>
            <p:nvPr/>
          </p:nvGrpSpPr>
          <p:grpSpPr>
            <a:xfrm>
              <a:off x="2205000" y="2494440"/>
              <a:ext cx="1223280" cy="1122840"/>
              <a:chOff x="2205000" y="2494440"/>
              <a:chExt cx="1223280" cy="1122840"/>
            </a:xfrm>
          </p:grpSpPr>
          <p:sp>
            <p:nvSpPr>
              <p:cNvPr id="158" name="Freeform 46"/>
              <p:cNvSpPr/>
              <p:nvPr/>
            </p:nvSpPr>
            <p:spPr>
              <a:xfrm>
                <a:off x="2209320" y="2494440"/>
                <a:ext cx="11386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47"/>
              <p:cNvSpPr/>
              <p:nvPr/>
            </p:nvSpPr>
            <p:spPr>
              <a:xfrm>
                <a:off x="2205000" y="276480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0" name="Freeform 31"/>
            <p:cNvSpPr/>
            <p:nvPr/>
          </p:nvSpPr>
          <p:spPr>
            <a:xfrm>
              <a:off x="3884760" y="2553480"/>
              <a:ext cx="113544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Text Box 43"/>
            <p:cNvSpPr/>
            <p:nvPr/>
          </p:nvSpPr>
          <p:spPr>
            <a:xfrm>
              <a:off x="3924360" y="256932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2" name="Group 41"/>
            <p:cNvGrpSpPr/>
            <p:nvPr/>
          </p:nvGrpSpPr>
          <p:grpSpPr>
            <a:xfrm>
              <a:off x="5358240" y="2511360"/>
              <a:ext cx="1316880" cy="1122840"/>
              <a:chOff x="5358240" y="2511360"/>
              <a:chExt cx="1316880" cy="1122840"/>
            </a:xfrm>
          </p:grpSpPr>
          <p:sp>
            <p:nvSpPr>
              <p:cNvPr id="163" name="Freeform 48"/>
              <p:cNvSpPr/>
              <p:nvPr/>
            </p:nvSpPr>
            <p:spPr>
              <a:xfrm>
                <a:off x="5433120" y="251136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Text Box 55"/>
              <p:cNvSpPr/>
              <p:nvPr/>
            </p:nvSpPr>
            <p:spPr>
              <a:xfrm>
                <a:off x="5358240" y="279432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505600" y="42962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45"/>
            <p:cNvGrpSpPr/>
            <p:nvPr/>
          </p:nvGrpSpPr>
          <p:grpSpPr>
            <a:xfrm>
              <a:off x="2205000" y="3777120"/>
              <a:ext cx="1221480" cy="1124280"/>
              <a:chOff x="2205000" y="3777120"/>
              <a:chExt cx="1221480" cy="1124280"/>
            </a:xfrm>
          </p:grpSpPr>
          <p:sp>
            <p:nvSpPr>
              <p:cNvPr id="167" name="Freeform 81"/>
              <p:cNvSpPr/>
              <p:nvPr/>
            </p:nvSpPr>
            <p:spPr>
              <a:xfrm>
                <a:off x="2236320" y="3777120"/>
                <a:ext cx="113652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82"/>
              <p:cNvSpPr/>
              <p:nvPr/>
            </p:nvSpPr>
            <p:spPr>
              <a:xfrm>
                <a:off x="2205000" y="39956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9" name="Group 48"/>
            <p:cNvGrpSpPr/>
            <p:nvPr/>
          </p:nvGrpSpPr>
          <p:grpSpPr>
            <a:xfrm>
              <a:off x="3836520" y="3777120"/>
              <a:ext cx="1221480" cy="1124280"/>
              <a:chOff x="3836520" y="3777120"/>
              <a:chExt cx="1221480" cy="1124280"/>
            </a:xfrm>
          </p:grpSpPr>
          <p:sp>
            <p:nvSpPr>
              <p:cNvPr id="170" name="Freeform 30"/>
              <p:cNvSpPr/>
              <p:nvPr/>
            </p:nvSpPr>
            <p:spPr>
              <a:xfrm>
                <a:off x="3862800" y="3777120"/>
                <a:ext cx="113688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" name="Text Box 54"/>
              <p:cNvSpPr/>
              <p:nvPr/>
            </p:nvSpPr>
            <p:spPr>
              <a:xfrm>
                <a:off x="3836520" y="4013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2" name="Freeform 50"/>
            <p:cNvSpPr/>
            <p:nvPr/>
          </p:nvSpPr>
          <p:spPr>
            <a:xfrm>
              <a:off x="5433480" y="3770640"/>
              <a:ext cx="113688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Text Box 51"/>
            <p:cNvSpPr/>
            <p:nvPr/>
          </p:nvSpPr>
          <p:spPr>
            <a:xfrm>
              <a:off x="5413320" y="384588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Line 27"/>
            <p:cNvSpPr/>
            <p:nvPr/>
          </p:nvSpPr>
          <p:spPr>
            <a:xfrm flipH="1">
              <a:off x="2580480" y="557100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54"/>
            <p:cNvGrpSpPr/>
            <p:nvPr/>
          </p:nvGrpSpPr>
          <p:grpSpPr>
            <a:xfrm>
              <a:off x="2130120" y="5050080"/>
              <a:ext cx="1399320" cy="1122840"/>
              <a:chOff x="2130120" y="5050080"/>
              <a:chExt cx="1399320" cy="1122840"/>
            </a:xfrm>
          </p:grpSpPr>
          <p:sp>
            <p:nvSpPr>
              <p:cNvPr id="176" name="Freeform 57"/>
              <p:cNvSpPr/>
              <p:nvPr/>
            </p:nvSpPr>
            <p:spPr>
              <a:xfrm>
                <a:off x="2276640" y="5050080"/>
                <a:ext cx="113544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58"/>
              <p:cNvSpPr/>
              <p:nvPr/>
            </p:nvSpPr>
            <p:spPr>
              <a:xfrm>
                <a:off x="2130120" y="52718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57"/>
            <p:cNvGrpSpPr/>
            <p:nvPr/>
          </p:nvGrpSpPr>
          <p:grpSpPr>
            <a:xfrm>
              <a:off x="3836520" y="4986000"/>
              <a:ext cx="1221480" cy="1123200"/>
              <a:chOff x="3836520" y="4986000"/>
              <a:chExt cx="1221480" cy="1123200"/>
            </a:xfrm>
          </p:grpSpPr>
          <p:sp>
            <p:nvSpPr>
              <p:cNvPr id="179" name="Freeform 34"/>
              <p:cNvSpPr/>
              <p:nvPr/>
            </p:nvSpPr>
            <p:spPr>
              <a:xfrm>
                <a:off x="3884400" y="4986000"/>
                <a:ext cx="113544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61"/>
              <p:cNvSpPr/>
              <p:nvPr/>
            </p:nvSpPr>
            <p:spPr>
              <a:xfrm>
                <a:off x="3836520" y="527220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1" name="Group 60"/>
            <p:cNvGrpSpPr/>
            <p:nvPr/>
          </p:nvGrpSpPr>
          <p:grpSpPr>
            <a:xfrm>
              <a:off x="5433480" y="5050080"/>
              <a:ext cx="1221480" cy="1122840"/>
              <a:chOff x="5433480" y="5050080"/>
              <a:chExt cx="1221480" cy="1122840"/>
            </a:xfrm>
          </p:grpSpPr>
          <p:sp>
            <p:nvSpPr>
              <p:cNvPr id="182" name="Freeform 63"/>
              <p:cNvSpPr/>
              <p:nvPr/>
            </p:nvSpPr>
            <p:spPr>
              <a:xfrm>
                <a:off x="5452200" y="505008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3" name="Text Box 64"/>
              <p:cNvSpPr/>
              <p:nvPr/>
            </p:nvSpPr>
            <p:spPr>
              <a:xfrm>
                <a:off x="5433480" y="52718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DE135-E5B6-4C55-A71D-3D167C8769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FD606-5B8A-49BD-B992-A61AFE3365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4" descr="Philip Crosby photo"/>
          <p:cNvPicPr/>
          <p:nvPr/>
        </p:nvPicPr>
        <p:blipFill>
          <a:blip r:embed="rId1"/>
          <a:stretch/>
        </p:blipFill>
        <p:spPr>
          <a:xfrm>
            <a:off x="6781680" y="2057400"/>
            <a:ext cx="1994040" cy="25909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4191120" y="5254560"/>
            <a:ext cx="4724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ilip Crosb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Four Absolutes of Quality Manageme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457200" y="2743200"/>
            <a:ext cx="5791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Quality is meeting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customer nee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F0154-5F5C-41B8-9FC5-07D952D110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A1DDF-FE38-45A9-B177-3943DA7CB7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o is Responsible for Customer Service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2" name="Picture 5" descr="7285_lores"/>
          <p:cNvPicPr/>
          <p:nvPr/>
        </p:nvPicPr>
        <p:blipFill>
          <a:blip r:embed="rId1"/>
          <a:srcRect l="34886" t="0" r="17443" b="0"/>
          <a:stretch/>
        </p:blipFill>
        <p:spPr>
          <a:xfrm>
            <a:off x="5316480" y="1295280"/>
            <a:ext cx="3141720" cy="4496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uniocular_mic_cdc"/>
          <p:cNvPicPr/>
          <p:nvPr/>
        </p:nvPicPr>
        <p:blipFill>
          <a:blip r:embed="rId2"/>
          <a:srcRect l="2557" t="8365" r="7671" b="13383"/>
          <a:stretch/>
        </p:blipFill>
        <p:spPr>
          <a:xfrm>
            <a:off x="3581280" y="426708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bifocal_microscope_07_cdc"/>
          <p:cNvPicPr/>
          <p:nvPr/>
        </p:nvPicPr>
        <p:blipFill>
          <a:blip r:embed="rId3"/>
          <a:stretch/>
        </p:blipFill>
        <p:spPr>
          <a:xfrm>
            <a:off x="457200" y="1295280"/>
            <a:ext cx="3352680" cy="2332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equip_calibrate"/>
          <p:cNvPicPr/>
          <p:nvPr/>
        </p:nvPicPr>
        <p:blipFill>
          <a:blip r:embed="rId4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PHIL_2104_lores"/>
          <p:cNvPicPr/>
          <p:nvPr/>
        </p:nvPicPr>
        <p:blipFill>
          <a:blip r:embed="rId5"/>
          <a:stretch/>
        </p:blipFill>
        <p:spPr>
          <a:xfrm>
            <a:off x="3276720" y="1295280"/>
            <a:ext cx="2590560" cy="1981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6216_thumb"/>
          <p:cNvPicPr/>
          <p:nvPr/>
        </p:nvPicPr>
        <p:blipFill>
          <a:blip r:embed="rId6"/>
          <a:stretch/>
        </p:blipFill>
        <p:spPr>
          <a:xfrm>
            <a:off x="5334120" y="480060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8" descr="5753_lores"/>
          <p:cNvPicPr/>
          <p:nvPr/>
        </p:nvPicPr>
        <p:blipFill>
          <a:blip r:embed="rId7"/>
          <a:srcRect l="0" t="0" r="45258" b="30162"/>
          <a:stretch/>
        </p:blipFill>
        <p:spPr>
          <a:xfrm>
            <a:off x="7010280" y="3962520"/>
            <a:ext cx="1447920" cy="236196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15"/>
          <p:cNvSpPr/>
          <p:nvPr/>
        </p:nvSpPr>
        <p:spPr>
          <a:xfrm>
            <a:off x="1981080" y="2895480"/>
            <a:ext cx="5334120" cy="1981440"/>
          </a:xfrm>
          <a:custGeom>
            <a:avLst/>
            <a:gdLst>
              <a:gd name="textAreaLeft" fmla="*/ 1196640 w 5334120"/>
              <a:gd name="textAreaRight" fmla="*/ 4137480 w 5334120"/>
              <a:gd name="textAreaTop" fmla="*/ 0 h 1981440"/>
              <a:gd name="textAreaBottom" fmla="*/ 1733760 h 1981440"/>
            </a:gdLst>
            <a:ahLst/>
            <a:rect l="textAreaLeft" t="textAreaTop" r="textAreaRight" b="textAreaBottom"/>
            <a:pathLst>
              <a:path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1263"/>
                  <a:pt x="7126" y="21600"/>
                  <a:pt x="6706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4846" y="2700"/>
                </a:lnTo>
                <a:lnTo>
                  <a:pt x="4846" y="675"/>
                </a:lnTo>
                <a:cubicBezTo>
                  <a:pt x="4846" y="338"/>
                  <a:pt x="5266" y="0"/>
                  <a:pt x="5686" y="0"/>
                </a:cubicBezTo>
                <a:lnTo>
                  <a:pt x="15914" y="0"/>
                </a:lnTo>
                <a:cubicBezTo>
                  <a:pt x="16334" y="0"/>
                  <a:pt x="16754" y="338"/>
                  <a:pt x="16754" y="675"/>
                </a:cubicBezTo>
                <a:lnTo>
                  <a:pt x="16754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894" y="21600"/>
                </a:lnTo>
                <a:cubicBezTo>
                  <a:pt x="14474" y="21600"/>
                  <a:pt x="14054" y="21263"/>
                  <a:pt x="14054" y="20925"/>
                </a:cubicBezTo>
                <a:lnTo>
                  <a:pt x="14054" y="18900"/>
                </a:lnTo>
                <a:close/>
              </a:path>
              <a:path fill="darkenLess"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0588"/>
                  <a:pt x="7126" y="20250"/>
                  <a:pt x="6706" y="20250"/>
                </a:cubicBezTo>
                <a:lnTo>
                  <a:pt x="5686" y="20250"/>
                </a:lnTo>
                <a:cubicBezTo>
                  <a:pt x="5266" y="20250"/>
                  <a:pt x="4846" y="19913"/>
                  <a:pt x="4846" y="19575"/>
                </a:cubicBezTo>
                <a:cubicBezTo>
                  <a:pt x="4846" y="19238"/>
                  <a:pt x="5266" y="18900"/>
                  <a:pt x="5686" y="18900"/>
                </a:cubicBezTo>
                <a:close/>
              </a:path>
              <a:path fill="darkenLess" w="21600" h="21600">
                <a:moveTo>
                  <a:pt x="14054" y="18900"/>
                </a:moveTo>
                <a:lnTo>
                  <a:pt x="14054" y="20925"/>
                </a:lnTo>
                <a:cubicBezTo>
                  <a:pt x="14054" y="20588"/>
                  <a:pt x="14474" y="20250"/>
                  <a:pt x="14894" y="20250"/>
                </a:cubicBezTo>
                <a:lnTo>
                  <a:pt x="15914" y="20250"/>
                </a:lnTo>
                <a:cubicBezTo>
                  <a:pt x="16334" y="20250"/>
                  <a:pt x="16754" y="19913"/>
                  <a:pt x="16754" y="19575"/>
                </a:cubicBezTo>
                <a:cubicBezTo>
                  <a:pt x="16754" y="19238"/>
                  <a:pt x="16334" y="18900"/>
                  <a:pt x="15914" y="18900"/>
                </a:cubicBezTo>
                <a:close/>
              </a:path>
              <a:path fill="darkenLess" w="21600" h="21600">
                <a:moveTo>
                  <a:pt x="4846" y="19575"/>
                </a:moveTo>
                <a:lnTo>
                  <a:pt x="4846" y="2700"/>
                </a:lnTo>
              </a:path>
              <a:path fill="darkenLess" w="21600" h="21600">
                <a:moveTo>
                  <a:pt x="16754" y="19575"/>
                </a:moveTo>
                <a:lnTo>
                  <a:pt x="16754" y="270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20"/>
          <p:cNvSpPr/>
          <p:nvPr/>
        </p:nvSpPr>
        <p:spPr>
          <a:xfrm>
            <a:off x="2590920" y="3276720"/>
            <a:ext cx="41907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Everyone in the laboratory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for improving customer satisf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quir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mmitment from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knowledge of monitoring too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3692D-7AC3-4B97-9DB5-C612AC697B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08A6A-006C-4F6C-95D4-9F1541A4A1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CF917-289E-458D-9871-DD62396EB4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Picture 14" descr="mom_baby"/>
          <p:cNvPicPr/>
          <p:nvPr/>
        </p:nvPicPr>
        <p:blipFill>
          <a:blip r:embed="rId1"/>
          <a:stretch/>
        </p:blipFill>
        <p:spPr>
          <a:xfrm>
            <a:off x="6705720" y="2133720"/>
            <a:ext cx="2057400" cy="1479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3" descr="elderly_patient_doc"/>
          <p:cNvPicPr/>
          <p:nvPr/>
        </p:nvPicPr>
        <p:blipFill>
          <a:blip r:embed="rId2"/>
          <a:stretch/>
        </p:blipFill>
        <p:spPr>
          <a:xfrm>
            <a:off x="533520" y="167652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2"/>
          <p:cNvSpPr/>
          <p:nvPr/>
        </p:nvSpPr>
        <p:spPr>
          <a:xfrm>
            <a:off x="7010280" y="3581280"/>
            <a:ext cx="190512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and its Cli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609480" y="472428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5715000" y="3352680"/>
            <a:ext cx="205740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3124080" y="1371600"/>
            <a:ext cx="281952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3" name="AutoShape 7"/>
          <p:cNvCxnSpPr/>
          <p:nvPr/>
        </p:nvCxnSpPr>
        <p:spPr>
          <a:xfrm>
            <a:off x="5029200" y="2133720"/>
            <a:ext cx="14104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8"/>
          <p:cNvCxnSpPr/>
          <p:nvPr/>
        </p:nvCxnSpPr>
        <p:spPr>
          <a:xfrm flipH="1">
            <a:off x="1751760" y="2209680"/>
            <a:ext cx="2134440" cy="24390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15" name="AutoShape 9"/>
          <p:cNvSpPr/>
          <p:nvPr/>
        </p:nvSpPr>
        <p:spPr>
          <a:xfrm>
            <a:off x="3581280" y="4800600"/>
            <a:ext cx="20574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ca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6" name="AutoShape 10"/>
          <p:cNvCxnSpPr/>
          <p:nvPr/>
        </p:nvCxnSpPr>
        <p:spPr>
          <a:xfrm>
            <a:off x="4495680" y="2362320"/>
            <a:ext cx="78480" cy="228672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11"/>
          <p:cNvCxnSpPr>
            <a:stCxn id="210" idx="3"/>
            <a:endCxn id="215" idx="1"/>
          </p:cNvCxnSpPr>
          <p:nvPr/>
        </p:nvCxnSpPr>
        <p:spPr>
          <a:xfrm>
            <a:off x="2437920" y="5105520"/>
            <a:ext cx="114372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8" name="AutoShape 12"/>
          <p:cNvCxnSpPr/>
          <p:nvPr/>
        </p:nvCxnSpPr>
        <p:spPr>
          <a:xfrm flipV="1">
            <a:off x="5638680" y="4190760"/>
            <a:ext cx="1448640" cy="1257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FD262-8A2B-4A57-AA99-BA43678A86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A1436-DF03-4B2F-B7DB-555F837C65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shall be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gally identifiab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4572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dr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act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lepho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csimi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4" descr="j0286448"/>
          <p:cNvPicPr/>
          <p:nvPr/>
        </p:nvPicPr>
        <p:blipFill>
          <a:blip r:embed="rId1"/>
          <a:stretch/>
        </p:blipFill>
        <p:spPr>
          <a:xfrm>
            <a:off x="4800600" y="1752480"/>
            <a:ext cx="3286080" cy="403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8:04Z</dcterms:modified>
  <cp:revision>109</cp:revision>
  <dc:subject/>
  <dc:title>Slide 1</dc:title>
</cp:coreProperties>
</file>